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CDB-83F9-4F72-8874-AB3B7B4A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584-D7B1-446F-B142-365D7A93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7E8-471D-4722-ACBA-E2321658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862-F1FE-4678-BD95-859E6767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408D-8C10-4BB4-9C26-E80ED961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B81C-5A86-4937-89B2-9DF2D950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6C8B-FD54-4B02-83B5-98949509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DEF5-CE09-4B71-85F0-9B47CA93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4713-5783-4E4D-AFCA-DC1A0203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DCF2-19B6-497D-A54C-74092728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0ED4-7A21-4DC6-8C49-77B9FC47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5F1-CF85-40AD-A01C-62F69DDF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E6BF-7368-4681-9DD9-64EE64F7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41C4-9E00-448A-B382-06535199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6E4A-DC4B-4271-840A-8879ED62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4ABA-572B-449E-8475-C0D61149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E08F-497C-431A-B02A-0BCFC255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C6D-EDAC-4794-B144-A914F60B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F91-965E-4545-9090-DE822225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26B-8A2D-4288-94AB-8EDB6ABE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FB3-19BD-4D85-A2B8-D680DA6B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5CC-889F-4512-8BD5-6BE45B77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131-EDC1-45D7-9D9F-CE8FBBBE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77E-8535-4FA5-81AB-AE90173D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C242-9286-4919-B27D-18EE7DE55EAD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4DFC-D852-4D6F-B9E9-626D9ADB3E83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ategory/6-8/iSquad Session 2 of 2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Get Going with File Mgmt for MAC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62520" y="1752480"/>
            <a:ext cx="144756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8001000" y="3352680"/>
            <a:ext cx="99072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3120" y="1889280"/>
            <a:ext cx="6400800" cy="3200400"/>
          </a:xfrm>
          <a:prstGeom prst="ellipse">
            <a:avLst/>
          </a:prstGeom>
          <a:noFill/>
          <a:ln w="57240">
            <a:solidFill>
              <a:srgbClr val="f53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Using Spotligh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ouble-click on the name of the folder or application you would like to se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V="1">
            <a:off x="1523880" y="3838680"/>
            <a:ext cx="685800" cy="12384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Using Spotligh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n we click on a file name, we can see where the file is located on the comput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6428880" y="5048280"/>
            <a:ext cx="205740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029200"/>
            <a:ext cx="190512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pen the Finder window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ype “Smart” in the Spotlight search area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the computer find?  Where were the files located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we will practice searching for files and folders on our computer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ractice searching for documents on your comput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nd the folders we created in our last sessi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tice where they are locate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find files and applications on our computer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learned how to search and find files and applications on our computer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 notice when you were searching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35064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can we help teachers and students to find files, folders and applications   on their computers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 the last session, we learned how to create folders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will learn how to find files and applications on our comput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y would we need to search for files and application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Reasons to Search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rgot what a document is name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pplication icon is not in the “dock”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on’t remember what folder the file is saved i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potligh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 the Finder window, there is a search tool called “Spotlight”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9880" y="974880"/>
            <a:ext cx="152424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Using Spotligh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ype key word, name of the application or folder you would like to fin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potlight will list everything it finds in the computer that contains the words you have type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2-28T02:13:56Z</dcterms:modified>
  <cp:revision>9</cp:revision>
  <dc:subject/>
  <dc:title>Workshop Title</dc:title>
</cp:coreProperties>
</file>